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B718-9990-4C19-A27F-6C4BC8846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E937-73C3-4054-BD83-0E37D52E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A2C4-8D5F-470E-9F8F-E0DB60449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0B9D-B656-4359-8013-095A6E651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99C9-7052-427D-BE88-4CB77DF2B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7E07-A184-4606-B58C-C48F5066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9CC6-EA40-47E6-8249-890166D2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D909-8DC8-415F-8B49-2A1FA6B4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CFD5-6D59-4436-8182-548E9F7E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FD78-53EE-44F7-8BB3-C1B5EDC2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9980-D0C1-4F38-932D-6206DAE8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AAA7-11AC-4B8D-8E5D-67543667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6D09-B03C-4538-B49E-CF571417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B1FC-750C-42B7-803E-0348B2EA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39FC-49C6-47EB-98D2-2FF36623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BC1F-5E35-4A40-8F47-8EAC8FE0E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AB08-7F6A-4A47-A6E3-AC433BE66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666A-5004-4D41-883B-BBEEE631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431A-BCFE-4641-88CF-C54D6A2F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51A5-8533-4DA0-B8D8-E083A4D0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9781-3B53-4199-8EC9-E6699C6E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7EA4-1577-472E-9D43-B2A810F6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C787-D7F5-4C1B-A384-6ECC3F2E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3094-F1F2-451B-9C18-4F54DFBE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C483-E03C-4E88-9687-AEB28BA32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006A-C6A7-4B60-8D7A-EC7C89582160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reating a School of Belonging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A. Lev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ve Factor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 and environmental safegu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a charismatic teacher/significant ad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school success (competenc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welcoming environment (school-wide, class, grou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predictable and consis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pro-social skills (the great protec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silien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:  relationships, emotionally safe (needs-oriented), pro-social cultural norms, feeling of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: pro-social skills, perspective, trust, self-competence, altruistic 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21st Century Survival Skills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agner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thinking and problem sol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on across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ility and adap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ive and entrepreneuri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oral and written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ing and analyzing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iosity and imagination (empath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pathy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it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innate and can it be lear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lack of empathy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cial Learning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ught through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dba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praise/private cor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t into all learning 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otional Learn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age: what is your definition and how does it impact one’s life journ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otion is learning…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a time when you were lo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old were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were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were you wi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you fe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otion is learning…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arizing issues of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oes and enter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s and Sexual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int/value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are your buttons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your 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otional intelligence (EQ) reflects how you respond when under pressure. How do you “manage” your emo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indfulness Training as EQ Train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gaining momentum as a new way to pay 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s self-control, reflection, empathy, choice-con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ard Gr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itua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ower an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the statement this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the group on what is going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mmon Languag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words, phrases or names for processes that help create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ul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 are seeking to promote and bring everyone to the same place at the sam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alogu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t of collective thin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-ended ques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, what, where, when, 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rify and summ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 feelings and i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alogue about the da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mall grou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ill you take ho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hing you will re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you want to know more 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urprised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were you touch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Pressures Children Fe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they come fr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aging life’s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ping with t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fficult Life Situations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predic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unpredic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pectrum for Emotional Safety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-active vs re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ion vs inter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 vs 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Container…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onging:  affiliation, connection,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:  competence, social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dom: voice, independence, accoun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: engaged in learning, having healthy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al World Learn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watch the video and write down any reflections you hav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silien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your defini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0:58:42Z</dcterms:created>
  <dc:creator>David Levine</dc:creator>
  <dc:description/>
  <dc:language>en-US</dc:language>
  <cp:lastModifiedBy>David Levine</cp:lastModifiedBy>
  <dcterms:modified xsi:type="dcterms:W3CDTF">2012-04-26T18:20:42Z</dcterms:modified>
  <cp:revision>10</cp:revision>
  <dc:subject/>
  <dc:title>From Spreadsheets to Heartbeats</dc:title>
</cp:coreProperties>
</file>